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65938" cy="9996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65200" cy="999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1"/>
          </p:nvPr>
        </p:nvSpPr>
        <p:spPr>
          <a:xfrm>
            <a:off x="3887640" y="-36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F220A75-F1E5-4B9A-A531-50AF86CE194B}" type="datetime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32040" y="749160"/>
            <a:ext cx="4998960" cy="374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749480"/>
            <a:ext cx="5492880" cy="44989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2"/>
          </p:nvPr>
        </p:nvSpPr>
        <p:spPr>
          <a:xfrm>
            <a:off x="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3"/>
          </p:nvPr>
        </p:nvSpPr>
        <p:spPr>
          <a:xfrm>
            <a:off x="3887640" y="9496080"/>
            <a:ext cx="297504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48D0262-DBA8-4BC2-BBBF-518021813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7640" y="9496440"/>
            <a:ext cx="29750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7DA63C5-CB8B-4C8D-9868-0369D8149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9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0600" y="4706640"/>
            <a:ext cx="5357880" cy="45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55560" y="304920"/>
            <a:ext cx="673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4044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5320" y="1520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5556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4044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5320" y="338652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55560" y="304920"/>
            <a:ext cx="673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24640" y="338652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556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4640" y="1520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560" y="338652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0" y="0"/>
            <a:ext cx="9144000" cy="182520"/>
          </a:xfrm>
          <a:prstGeom prst="rect">
            <a:avLst/>
          </a:prstGeom>
          <a:solidFill>
            <a:srgbClr val="708c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1325880" y="6672240"/>
            <a:ext cx="16707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700" spc="-1" strike="noStrike">
                <a:solidFill>
                  <a:srgbClr val="d3d3d3"/>
                </a:solidFill>
                <a:latin typeface="Arial"/>
              </a:rPr>
              <a:t>© 2007 SSA CATC. All rights reserv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142920" y="6669000"/>
            <a:ext cx="12096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700" spc="-1" strike="noStrike">
                <a:solidFill>
                  <a:srgbClr val="d3d3d3"/>
                </a:solidFill>
                <a:latin typeface="Arial"/>
              </a:rPr>
              <a:t>CCNA1V4.0.Welco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CNA-Band"/>
          <p:cNvPicPr/>
          <p:nvPr/>
        </p:nvPicPr>
        <p:blipFill>
          <a:blip r:embed="rId2"/>
          <a:stretch/>
        </p:blipFill>
        <p:spPr>
          <a:xfrm>
            <a:off x="5378400" y="0"/>
            <a:ext cx="3765600" cy="18252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0"/>
          <p:cNvGrpSpPr/>
          <p:nvPr/>
        </p:nvGrpSpPr>
        <p:grpSpPr>
          <a:xfrm>
            <a:off x="7746840" y="316080"/>
            <a:ext cx="1297080" cy="1432440"/>
            <a:chOff x="7746840" y="316080"/>
            <a:chExt cx="1297080" cy="1432440"/>
          </a:xfrm>
        </p:grpSpPr>
        <p:sp>
          <p:nvSpPr>
            <p:cNvPr id="7" name="Text Box 11"/>
            <p:cNvSpPr/>
            <p:nvPr/>
          </p:nvSpPr>
          <p:spPr>
            <a:xfrm>
              <a:off x="7746840" y="1395360"/>
              <a:ext cx="1297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700" spc="-1" strike="noStrike">
                  <a:solidFill>
                    <a:srgbClr val="b21a1a"/>
                  </a:solidFill>
                  <a:latin typeface="Arial Rounded MT Bold"/>
                  <a:ea typeface="Arial"/>
                </a:rPr>
                <a:t>SSA CAT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" name="Group 12"/>
            <p:cNvGrpSpPr/>
            <p:nvPr/>
          </p:nvGrpSpPr>
          <p:grpSpPr>
            <a:xfrm>
              <a:off x="7832520" y="316080"/>
              <a:ext cx="1155600" cy="1103040"/>
              <a:chOff x="7832520" y="316080"/>
              <a:chExt cx="1155600" cy="1103040"/>
            </a:xfrm>
          </p:grpSpPr>
          <p:sp>
            <p:nvSpPr>
              <p:cNvPr id="9" name="AutoShape 13"/>
              <p:cNvSpPr/>
              <p:nvPr/>
            </p:nvSpPr>
            <p:spPr>
              <a:xfrm>
                <a:off x="7832520" y="316080"/>
                <a:ext cx="1155600" cy="11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4"/>
              <p:cNvSpPr/>
              <p:nvPr/>
            </p:nvSpPr>
            <p:spPr>
              <a:xfrm>
                <a:off x="7832520" y="316800"/>
                <a:ext cx="1155600" cy="110088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5"/>
              <p:cNvSpPr/>
              <p:nvPr/>
            </p:nvSpPr>
            <p:spPr>
              <a:xfrm>
                <a:off x="7860600" y="345600"/>
                <a:ext cx="1098720" cy="636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6"/>
              <p:cNvSpPr/>
              <p:nvPr/>
            </p:nvSpPr>
            <p:spPr>
              <a:xfrm>
                <a:off x="8002440" y="442080"/>
                <a:ext cx="815040" cy="22572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7"/>
              <p:cNvSpPr/>
              <p:nvPr/>
            </p:nvSpPr>
            <p:spPr>
              <a:xfrm>
                <a:off x="8076240" y="728280"/>
                <a:ext cx="769680" cy="149040"/>
              </a:xfrm>
              <a:prstGeom prst="pie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8"/>
              <p:cNvSpPr/>
              <p:nvPr/>
            </p:nvSpPr>
            <p:spPr>
              <a:xfrm>
                <a:off x="8043120" y="1078920"/>
                <a:ext cx="733680" cy="27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9"/>
              <p:cNvSpPr/>
              <p:nvPr/>
            </p:nvSpPr>
            <p:spPr>
              <a:xfrm>
                <a:off x="8316720" y="728280"/>
                <a:ext cx="97200" cy="147600"/>
              </a:xfrm>
              <a:prstGeom prst="pie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NA-Title"/>
          <p:cNvPicPr/>
          <p:nvPr/>
        </p:nvPicPr>
        <p:blipFill>
          <a:blip r:embed="rId2"/>
          <a:stretch/>
        </p:blipFill>
        <p:spPr>
          <a:xfrm>
            <a:off x="0" y="1930320"/>
            <a:ext cx="9140760" cy="27417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1314000" y="6672240"/>
            <a:ext cx="1694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700" spc="-1" strike="noStrike">
                <a:solidFill>
                  <a:srgbClr val="d3d3d3"/>
                </a:solidFill>
                <a:latin typeface="Arial"/>
              </a:rPr>
              <a:t>© 2007 SSA CAT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08000" y="6657120"/>
            <a:ext cx="1295280" cy="2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800" spc="-1" strike="noStrike">
                <a:solidFill>
                  <a:srgbClr val="d3d3d3"/>
                </a:solidFill>
                <a:latin typeface="Arial"/>
              </a:rPr>
              <a:t>CCNA1V3.1.1Welco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E1E9093-5E1C-4B2C-AF4A-DD5AF0F7D97F}" type="slidenum">
              <a:rPr b="0" lang="en-GB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NA_logo-onwhite"/>
          <p:cNvPicPr/>
          <p:nvPr/>
        </p:nvPicPr>
        <p:blipFill>
          <a:blip r:embed="rId3"/>
          <a:stretch/>
        </p:blipFill>
        <p:spPr>
          <a:xfrm>
            <a:off x="438120" y="466560"/>
            <a:ext cx="3684600" cy="54000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9"/>
          <p:cNvGrpSpPr/>
          <p:nvPr/>
        </p:nvGrpSpPr>
        <p:grpSpPr>
          <a:xfrm>
            <a:off x="7570800" y="316080"/>
            <a:ext cx="1297080" cy="1432440"/>
            <a:chOff x="7570800" y="316080"/>
            <a:chExt cx="1297080" cy="1432440"/>
          </a:xfrm>
        </p:grpSpPr>
        <p:sp>
          <p:nvSpPr>
            <p:cNvPr id="58" name="Text Box 10"/>
            <p:cNvSpPr/>
            <p:nvPr/>
          </p:nvSpPr>
          <p:spPr>
            <a:xfrm>
              <a:off x="7570800" y="1395360"/>
              <a:ext cx="1297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1700" spc="-1" strike="noStrike">
                  <a:solidFill>
                    <a:srgbClr val="b21a1a"/>
                  </a:solidFill>
                  <a:latin typeface="Arial Rounded MT Bold"/>
                  <a:ea typeface="Arial"/>
                </a:rPr>
                <a:t>SSA CAT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11"/>
            <p:cNvGrpSpPr/>
            <p:nvPr/>
          </p:nvGrpSpPr>
          <p:grpSpPr>
            <a:xfrm>
              <a:off x="7656480" y="316080"/>
              <a:ext cx="1155600" cy="1103040"/>
              <a:chOff x="7656480" y="316080"/>
              <a:chExt cx="1155600" cy="1103040"/>
            </a:xfrm>
          </p:grpSpPr>
          <p:sp>
            <p:nvSpPr>
              <p:cNvPr id="60" name="AutoShape 12"/>
              <p:cNvSpPr/>
              <p:nvPr/>
            </p:nvSpPr>
            <p:spPr>
              <a:xfrm>
                <a:off x="7656480" y="316080"/>
                <a:ext cx="1155600" cy="11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3"/>
              <p:cNvSpPr/>
              <p:nvPr/>
            </p:nvSpPr>
            <p:spPr>
              <a:xfrm>
                <a:off x="7656480" y="316800"/>
                <a:ext cx="1155600" cy="110088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4"/>
              <p:cNvSpPr/>
              <p:nvPr/>
            </p:nvSpPr>
            <p:spPr>
              <a:xfrm>
                <a:off x="7684560" y="345600"/>
                <a:ext cx="1098720" cy="636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5"/>
              <p:cNvSpPr/>
              <p:nvPr/>
            </p:nvSpPr>
            <p:spPr>
              <a:xfrm>
                <a:off x="7826400" y="442080"/>
                <a:ext cx="815040" cy="225720"/>
              </a:xfrm>
              <a:prstGeom prst="pie">
                <a:avLst/>
              </a:pr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6"/>
              <p:cNvSpPr/>
              <p:nvPr/>
            </p:nvSpPr>
            <p:spPr>
              <a:xfrm>
                <a:off x="7900200" y="728280"/>
                <a:ext cx="769680" cy="149040"/>
              </a:xfrm>
              <a:prstGeom prst="pie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7"/>
              <p:cNvSpPr/>
              <p:nvPr/>
            </p:nvSpPr>
            <p:spPr>
              <a:xfrm>
                <a:off x="7867080" y="1078920"/>
                <a:ext cx="733680" cy="270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8"/>
              <p:cNvSpPr/>
              <p:nvPr/>
            </p:nvSpPr>
            <p:spPr>
              <a:xfrm>
                <a:off x="8140680" y="728280"/>
                <a:ext cx="97200" cy="147600"/>
              </a:xfrm>
              <a:prstGeom prst="pie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reless LANs as we know it (or not)</a:t>
            </a:r>
            <a:endParaRPr b="1" lang="en-US" sz="4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295280" y="477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naldo Rhee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naldo.rheeder@ssacatc.co.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M: catc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55560" y="1520640"/>
            <a:ext cx="7940880" cy="3571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CNA Explo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2320920" y="1531800"/>
            <a:ext cx="4457880" cy="23907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4610160" y="2400480"/>
            <a:ext cx="2155680" cy="68580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560" y="4111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CNA Exp LAN Switching &amp; Wireless – chapter 7 Theo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19120" y="2822400"/>
            <a:ext cx="7900920" cy="1879920"/>
          </a:xfrm>
          <a:prstGeom prst="rect">
            <a:avLst/>
          </a:prstGeom>
          <a:ln w="0">
            <a:noFill/>
          </a:ln>
        </p:spPr>
      </p:pic>
      <p:sp>
        <p:nvSpPr>
          <p:cNvPr id="174" name="Straight Connector 8"/>
          <p:cNvSpPr/>
          <p:nvPr/>
        </p:nvSpPr>
        <p:spPr>
          <a:xfrm flipV="1">
            <a:off x="2797200" y="3611520"/>
            <a:ext cx="3413160" cy="7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6027840" y="3946680"/>
            <a:ext cx="224784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2"/>
          <p:cNvSpPr/>
          <p:nvPr/>
        </p:nvSpPr>
        <p:spPr>
          <a:xfrm flipV="1">
            <a:off x="1379520" y="4251240"/>
            <a:ext cx="3665520" cy="158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4"/>
          <p:cNvSpPr/>
          <p:nvPr/>
        </p:nvSpPr>
        <p:spPr>
          <a:xfrm>
            <a:off x="1425600" y="4579920"/>
            <a:ext cx="3755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560" y="4111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CNA Exp LAN Switching &amp; Wireless – chapter 7 Practica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55560" y="1879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Build an extension WLAN to an existing fixed-wired 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onfigure basic parameters on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onfigure Client for WLAN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Test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77520" y="174132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2 X Linksys wireless routers (WRT300N or similar) OR SOHO equivalent Per P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Implied – some Wireless NICs (2 per Wireless Router recommen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CNA Equipment needed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WLAN &amp; Wireless </a:t>
            </a:r>
            <a:r>
              <a:rPr b="0" lang="en-U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s on the design, planning, implementation, operation, and troubleshooting of Wireless 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FWLA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4000"/>
          </a:bodyPr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ff0000"/>
                </a:solidFill>
                <a:latin typeface="Arial"/>
              </a:rPr>
              <a:t>Introduction to Wireless 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802.11 (a,b,g) and Network Interface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Wireless Radio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ff0000"/>
                </a:solidFill>
                <a:latin typeface="Arial"/>
              </a:rPr>
              <a:t>Wireless Top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ccess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Bri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nte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ff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pplication Design and Site Survey Pr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t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Troubleshooting Management, Monitoring, and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Emerging Technologies (</a:t>
            </a:r>
            <a:r>
              <a:rPr b="0" lang="en-ZA" sz="1800" spc="-1" strike="noStrike">
                <a:solidFill>
                  <a:srgbClr val="c00000"/>
                </a:solidFill>
                <a:latin typeface="Arial"/>
              </a:rPr>
              <a:t>OLD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FWLAN - Theo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ff0000"/>
                </a:solidFill>
                <a:latin typeface="Arial"/>
              </a:rPr>
              <a:t>All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lient, AP, Bridging, Repeating, Security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FWLAN - Practica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Bundle no longer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Used to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Bri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PC NICs (for noteboo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PCI NICs (for P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FWLAN – Equipment Needed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 what do/should we know at this stage?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63480" y="16653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Academy offerings that teach (some)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fferent Model for W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ncepts only taught in CC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Wireless Cer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3A37-8806-4323-8FE4-76D08C38C48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Wireless LAN (WLAN)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41360" y="1273320"/>
            <a:ext cx="7386480" cy="5381640"/>
          </a:xfrm>
          <a:prstGeom prst="rect">
            <a:avLst/>
          </a:prstGeom>
          <a:ln w="0">
            <a:noFill/>
          </a:ln>
        </p:spPr>
      </p:pic>
      <p:sp>
        <p:nvSpPr>
          <p:cNvPr id="196" name="Straight Connector 4"/>
          <p:cNvSpPr/>
          <p:nvPr/>
        </p:nvSpPr>
        <p:spPr>
          <a:xfrm>
            <a:off x="1773360" y="2041560"/>
            <a:ext cx="114300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6"/>
          <p:cNvSpPr/>
          <p:nvPr/>
        </p:nvSpPr>
        <p:spPr>
          <a:xfrm flipV="1">
            <a:off x="2152800" y="2247480"/>
            <a:ext cx="4370400" cy="32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8"/>
          <p:cNvSpPr/>
          <p:nvPr/>
        </p:nvSpPr>
        <p:spPr>
          <a:xfrm flipV="1">
            <a:off x="1317600" y="2492280"/>
            <a:ext cx="2225880" cy="64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Similarities between WLAN and LA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611280" y="2082960"/>
            <a:ext cx="8055000" cy="3290760"/>
          </a:xfrm>
          <a:prstGeom prst="rect">
            <a:avLst/>
          </a:prstGeom>
          <a:ln w="0">
            <a:noFill/>
          </a:ln>
        </p:spPr>
      </p:pic>
      <p:sp>
        <p:nvSpPr>
          <p:cNvPr id="201" name="Straight Connector 4"/>
          <p:cNvSpPr/>
          <p:nvPr/>
        </p:nvSpPr>
        <p:spPr>
          <a:xfrm>
            <a:off x="1006560" y="3154320"/>
            <a:ext cx="2209680" cy="7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6"/>
          <p:cNvSpPr/>
          <p:nvPr/>
        </p:nvSpPr>
        <p:spPr>
          <a:xfrm>
            <a:off x="960480" y="3398760"/>
            <a:ext cx="314640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"/>
          <p:cNvSpPr/>
          <p:nvPr/>
        </p:nvSpPr>
        <p:spPr>
          <a:xfrm flipV="1">
            <a:off x="982800" y="3649680"/>
            <a:ext cx="2933640" cy="7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0"/>
          <p:cNvSpPr/>
          <p:nvPr/>
        </p:nvSpPr>
        <p:spPr>
          <a:xfrm>
            <a:off x="998640" y="3878280"/>
            <a:ext cx="1820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2"/>
          <p:cNvSpPr/>
          <p:nvPr/>
        </p:nvSpPr>
        <p:spPr>
          <a:xfrm flipV="1">
            <a:off x="922320" y="4321080"/>
            <a:ext cx="5813280" cy="64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685800" y="2583000"/>
            <a:ext cx="5013360" cy="144756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Wireless LAN Topologi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826920" y="1344600"/>
            <a:ext cx="7342200" cy="5315040"/>
          </a:xfrm>
          <a:prstGeom prst="rect">
            <a:avLst/>
          </a:prstGeom>
          <a:ln w="0">
            <a:noFill/>
          </a:ln>
        </p:spPr>
      </p:pic>
      <p:sp>
        <p:nvSpPr>
          <p:cNvPr id="209" name="Line 6"/>
          <p:cNvSpPr/>
          <p:nvPr/>
        </p:nvSpPr>
        <p:spPr>
          <a:xfrm>
            <a:off x="1114560" y="2781360"/>
            <a:ext cx="1296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1116000" y="3357720"/>
            <a:ext cx="1943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846680" y="3695760"/>
            <a:ext cx="3429000" cy="105876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3801960" y="4816440"/>
            <a:ext cx="4367160" cy="184320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Wireless Mesh Network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27236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Wireless Mesh Network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26360" cy="50832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4500720" y="1341360"/>
            <a:ext cx="5760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"/>
          <p:cNvSpPr/>
          <p:nvPr/>
        </p:nvSpPr>
        <p:spPr>
          <a:xfrm>
            <a:off x="1116000" y="6093000"/>
            <a:ext cx="2376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-41040" bIns="-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8"/>
          <p:cNvSpPr/>
          <p:nvPr/>
        </p:nvSpPr>
        <p:spPr>
          <a:xfrm>
            <a:off x="1214280" y="5191200"/>
            <a:ext cx="507240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10"/>
          <p:cNvSpPr/>
          <p:nvPr/>
        </p:nvSpPr>
        <p:spPr>
          <a:xfrm>
            <a:off x="3071880" y="5405400"/>
            <a:ext cx="2714400" cy="18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"/>
          <p:cNvSpPr/>
          <p:nvPr/>
        </p:nvSpPr>
        <p:spPr>
          <a:xfrm>
            <a:off x="2857680" y="5619600"/>
            <a:ext cx="4214520" cy="18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Wireless VLAN Suppor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2066760" y="1382760"/>
            <a:ext cx="4449960" cy="5214960"/>
          </a:xfrm>
          <a:prstGeom prst="rect">
            <a:avLst/>
          </a:prstGeom>
          <a:ln w="0">
            <a:noFill/>
          </a:ln>
        </p:spPr>
      </p:pic>
      <p:sp>
        <p:nvSpPr>
          <p:cNvPr id="224" name="Straight Connector 4"/>
          <p:cNvSpPr/>
          <p:nvPr/>
        </p:nvSpPr>
        <p:spPr>
          <a:xfrm>
            <a:off x="3048120" y="2073240"/>
            <a:ext cx="104436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lient Association – connect to A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569880" y="1521000"/>
            <a:ext cx="7288200" cy="46940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1562040" y="4237200"/>
            <a:ext cx="5143680" cy="208728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Offload Authentic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69920" y="1735200"/>
            <a:ext cx="88772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Evolution of WLAN securit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473040" y="1521000"/>
            <a:ext cx="731376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re is more however…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xisting Academy Offerings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Wired Ethernet vs. WLA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55200" y="1520640"/>
            <a:ext cx="389412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701960" y="1520640"/>
            <a:ext cx="389412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/54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6"/>
          <p:cNvSpPr/>
          <p:nvPr/>
        </p:nvSpPr>
        <p:spPr>
          <a:xfrm>
            <a:off x="70102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0B26-80F5-4B65-AB56-A99E2A1853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5"/>
          <p:cNvSpPr/>
          <p:nvPr/>
        </p:nvSpPr>
        <p:spPr>
          <a:xfrm>
            <a:off x="743040" y="1314360"/>
            <a:ext cx="6715080" cy="1371600"/>
          </a:xfrm>
          <a:prstGeom prst="ellipse">
            <a:avLst/>
          </a:prstGeom>
          <a:solidFill>
            <a:srgbClr val="ff00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Autonomous AP at the Access Lay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969920" y="1521000"/>
            <a:ext cx="5311800" cy="35715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2027160" y="3946680"/>
            <a:ext cx="770040" cy="99828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6732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isco WLAN Implement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647640" y="2558880"/>
            <a:ext cx="7885080" cy="20941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755640" y="2189160"/>
            <a:ext cx="223380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 WLAN Solu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5"/>
          <p:cNvSpPr/>
          <p:nvPr/>
        </p:nvSpPr>
        <p:spPr>
          <a:xfrm>
            <a:off x="3429000" y="3357720"/>
            <a:ext cx="250020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7"/>
          <p:cNvSpPr/>
          <p:nvPr/>
        </p:nvSpPr>
        <p:spPr>
          <a:xfrm>
            <a:off x="3429000" y="3857760"/>
            <a:ext cx="242892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nomous WLAN Solu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795240" y="1535040"/>
            <a:ext cx="7161480" cy="506268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"/>
          <p:cNvSpPr/>
          <p:nvPr/>
        </p:nvSpPr>
        <p:spPr>
          <a:xfrm>
            <a:off x="4656240" y="5051520"/>
            <a:ext cx="1042920" cy="106668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nomous A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887400" y="1695600"/>
            <a:ext cx="6997680" cy="45320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1020600" y="4518000"/>
            <a:ext cx="6500880" cy="180648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Initial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411120" y="1735200"/>
            <a:ext cx="7804080" cy="4694040"/>
          </a:xfrm>
          <a:prstGeom prst="rect">
            <a:avLst/>
          </a:prstGeom>
          <a:ln w="0">
            <a:noFill/>
          </a:ln>
        </p:spPr>
      </p:pic>
      <p:sp>
        <p:nvSpPr>
          <p:cNvPr id="255" name="Straight Connector 5"/>
          <p:cNvSpPr/>
          <p:nvPr/>
        </p:nvSpPr>
        <p:spPr>
          <a:xfrm>
            <a:off x="2000160" y="3214800"/>
            <a:ext cx="57168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2000160" y="3870360"/>
            <a:ext cx="3000600" cy="714240"/>
          </a:xfrm>
          <a:prstGeom prst="rect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8"/>
          <p:cNvSpPr/>
          <p:nvPr/>
        </p:nvSpPr>
        <p:spPr>
          <a:xfrm>
            <a:off x="1984320" y="6033960"/>
            <a:ext cx="1214640" cy="18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Autonomous vs Lightweight A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1919160" y="1973160"/>
            <a:ext cx="5515200" cy="3148200"/>
          </a:xfrm>
          <a:prstGeom prst="rect">
            <a:avLst/>
          </a:prstGeom>
          <a:ln w="0">
            <a:noFill/>
          </a:ln>
        </p:spPr>
      </p:pic>
      <p:sp>
        <p:nvSpPr>
          <p:cNvPr id="260" name="Oval 8"/>
          <p:cNvSpPr/>
          <p:nvPr/>
        </p:nvSpPr>
        <p:spPr>
          <a:xfrm>
            <a:off x="2506680" y="1989000"/>
            <a:ext cx="4329000" cy="2544840"/>
          </a:xfrm>
          <a:prstGeom prst="ellipse">
            <a:avLst/>
          </a:prstGeom>
          <a:noFill/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2"/>
          <a:stretch/>
        </p:blipFill>
        <p:spPr>
          <a:xfrm>
            <a:off x="5775480" y="3867120"/>
            <a:ext cx="830160" cy="538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62" name="Picture 5" descr=""/>
          <p:cNvPicPr/>
          <p:nvPr/>
        </p:nvPicPr>
        <p:blipFill>
          <a:blip r:embed="rId3"/>
          <a:stretch/>
        </p:blipFill>
        <p:spPr>
          <a:xfrm>
            <a:off x="2576520" y="3703680"/>
            <a:ext cx="1146240" cy="1560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ghtweight WLAN Solu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747720" y="1565280"/>
            <a:ext cx="7280280" cy="503244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1973520" y="5023800"/>
            <a:ext cx="519840" cy="26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708120" y="5494320"/>
            <a:ext cx="1523880" cy="54144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4716360" y="5127480"/>
            <a:ext cx="1044720" cy="99072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ghtweight WLA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79280" y="1584360"/>
            <a:ext cx="5500800" cy="45813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5"/>
          <p:cNvSpPr/>
          <p:nvPr/>
        </p:nvSpPr>
        <p:spPr>
          <a:xfrm>
            <a:off x="395280" y="3456000"/>
            <a:ext cx="923760" cy="330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4733280" y="2928960"/>
            <a:ext cx="425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0000"/>
                </a:solidFill>
                <a:latin typeface="Arial"/>
              </a:rPr>
              <a:t>-Data &amp; control traffic encaps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0000"/>
                </a:solidFill>
                <a:latin typeface="Arial"/>
              </a:rPr>
              <a:t>-Control traffic also encrypted (A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5560" y="358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Lightweight WLAN Controller Configuration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782640" y="1735200"/>
            <a:ext cx="6772320" cy="4591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5"/>
          <p:cNvSpPr/>
          <p:nvPr/>
        </p:nvSpPr>
        <p:spPr>
          <a:xfrm>
            <a:off x="1349280" y="5464080"/>
            <a:ext cx="3062520" cy="792360"/>
          </a:xfrm>
          <a:prstGeom prst="rect">
            <a:avLst/>
          </a:prstGeom>
          <a:noFill/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1295280"/>
            <a:ext cx="1317600" cy="5200920"/>
          </a:xfrm>
          <a:prstGeom prst="rect">
            <a:avLst/>
          </a:prstGeom>
          <a:solidFill>
            <a:srgbClr val="0183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1828800"/>
            <a:ext cx="9056520" cy="4484520"/>
          </a:xfrm>
          <a:prstGeom prst="rect">
            <a:avLst/>
          </a:prstGeom>
          <a:solidFill>
            <a:srgbClr val="add4dd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0" y="3228840"/>
            <a:ext cx="9056520" cy="0"/>
          </a:xfrm>
          <a:prstGeom prst="line">
            <a:avLst/>
          </a:prstGeom>
          <a:ln w="28440">
            <a:solidFill>
              <a:srgbClr val="d0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28440" y="4710240"/>
            <a:ext cx="9029880" cy="0"/>
          </a:xfrm>
          <a:prstGeom prst="line">
            <a:avLst/>
          </a:prstGeom>
          <a:ln w="28440">
            <a:solidFill>
              <a:srgbClr val="d0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-36360" bIns="-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920" y="4413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708ca1"/>
                </a:solidFill>
                <a:latin typeface="Arial"/>
              </a:rPr>
              <a:t>Networking Academy Product Portfolio</a:t>
            </a:r>
            <a:br>
              <a:rPr sz="3200"/>
            </a:b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6251400" y="1828800"/>
            <a:ext cx="1433520" cy="2863800"/>
          </a:xfrm>
          <a:prstGeom prst="rect">
            <a:avLst/>
          </a:prstGeom>
          <a:solidFill>
            <a:srgbClr val="0183b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00400" y="1828800"/>
            <a:ext cx="2438280" cy="4484520"/>
          </a:xfrm>
          <a:prstGeom prst="rect">
            <a:avLst/>
          </a:prstGeom>
          <a:solidFill>
            <a:srgbClr val="0183b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298520" y="3228840"/>
            <a:ext cx="1433520" cy="3084480"/>
          </a:xfrm>
          <a:prstGeom prst="rect">
            <a:avLst/>
          </a:prstGeom>
          <a:solidFill>
            <a:srgbClr val="0183b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1295280" y="6324480"/>
            <a:ext cx="7848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" rIns="9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295280" y="6400800"/>
            <a:ext cx="78487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700" spc="-1" strike="noStrike">
                <a:solidFill>
                  <a:srgbClr val="0183b7"/>
                </a:solidFill>
                <a:latin typeface="Arial"/>
              </a:rPr>
              <a:t>Student Networking Knowledge and Skil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-6480" y="4749840"/>
            <a:ext cx="130176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twork Inst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sic IT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stem Ad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-28440" y="3454560"/>
            <a:ext cx="132372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mall and Medium Business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0" y="2219400"/>
            <a:ext cx="1295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terpris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0" y="1373040"/>
            <a:ext cx="13082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E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6"/>
          <p:cNvSpPr/>
          <p:nvPr/>
        </p:nvSpPr>
        <p:spPr>
          <a:xfrm>
            <a:off x="4419720" y="2819520"/>
            <a:ext cx="1704960" cy="1704960"/>
          </a:xfrm>
          <a:prstGeom prst="ellipse">
            <a:avLst/>
          </a:prstGeom>
          <a:solidFill>
            <a:srgbClr val="efb525"/>
          </a:solidFill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7"/>
          <p:cNvSpPr/>
          <p:nvPr/>
        </p:nvSpPr>
        <p:spPr>
          <a:xfrm>
            <a:off x="2998800" y="3352680"/>
            <a:ext cx="1704960" cy="1704960"/>
          </a:xfrm>
          <a:prstGeom prst="ellipse">
            <a:avLst/>
          </a:prstGeom>
          <a:solidFill>
            <a:srgbClr val="678dc5"/>
          </a:solidFill>
          <a:ln w="76320">
            <a:solidFill>
              <a:srgbClr val="3e67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3200400" y="3657600"/>
            <a:ext cx="19540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NA-Disc</a:t>
            </a:r>
            <a:br>
              <a:rPr sz="18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itching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Ns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o to Adv Te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9"/>
          <p:cNvGrpSpPr/>
          <p:nvPr/>
        </p:nvGrpSpPr>
        <p:grpSpPr>
          <a:xfrm>
            <a:off x="2805480" y="4311000"/>
            <a:ext cx="281520" cy="369720"/>
            <a:chOff x="2805480" y="4311000"/>
            <a:chExt cx="281520" cy="369720"/>
          </a:xfrm>
        </p:grpSpPr>
        <p:sp>
          <p:nvSpPr>
            <p:cNvPr id="137" name="Rectangle 20"/>
            <p:cNvSpPr/>
            <p:nvPr/>
          </p:nvSpPr>
          <p:spPr>
            <a:xfrm flipH="1" rot="1033800">
              <a:off x="2812680" y="4348080"/>
              <a:ext cx="266760" cy="90360"/>
            </a:xfrm>
            <a:prstGeom prst="rect">
              <a:avLst/>
            </a:pr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1"/>
            <p:cNvSpPr/>
            <p:nvPr/>
          </p:nvSpPr>
          <p:spPr>
            <a:xfrm flipH="1" rot="6433800">
              <a:off x="2851560" y="4483440"/>
              <a:ext cx="304560" cy="79560"/>
            </a:xfrm>
            <a:prstGeom prst="rect">
              <a:avLst/>
            </a:pr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Oval 22"/>
          <p:cNvSpPr/>
          <p:nvPr/>
        </p:nvSpPr>
        <p:spPr>
          <a:xfrm>
            <a:off x="6996240" y="1730520"/>
            <a:ext cx="1704960" cy="1704960"/>
          </a:xfrm>
          <a:prstGeom prst="ellipse">
            <a:avLst/>
          </a:prstGeom>
          <a:solidFill>
            <a:srgbClr val="aa78c6"/>
          </a:solidFill>
          <a:ln w="76320">
            <a:solidFill>
              <a:srgbClr val="8a44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7182000" y="1996920"/>
            <a:ext cx="195408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NP</a:t>
            </a:r>
            <a:br>
              <a:rPr sz="18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calable Internetwork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ure Converged WANs Multilayer Switching Converged Networ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5"/>
          <p:cNvSpPr/>
          <p:nvPr/>
        </p:nvSpPr>
        <p:spPr>
          <a:xfrm>
            <a:off x="6095880" y="3581280"/>
            <a:ext cx="1105200" cy="1096920"/>
          </a:xfrm>
          <a:prstGeom prst="ellipse">
            <a:avLst/>
          </a:prstGeom>
          <a:solidFill>
            <a:srgbClr val="a0c02a"/>
          </a:solidFill>
          <a:ln w="76320">
            <a:solidFill>
              <a:srgbClr val="89a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6"/>
          <p:cNvSpPr/>
          <p:nvPr/>
        </p:nvSpPr>
        <p:spPr>
          <a:xfrm>
            <a:off x="6180120" y="3925800"/>
            <a:ext cx="936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362240"/>
                <a:tab algn="l" pos="2724120"/>
                <a:tab algn="l" pos="4086360"/>
                <a:tab algn="l" pos="5448240"/>
                <a:tab algn="l" pos="6810480"/>
                <a:tab algn="l" pos="8172360"/>
                <a:tab algn="l" pos="9534600"/>
                <a:tab algn="l" pos="108964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W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8"/>
          <p:cNvSpPr/>
          <p:nvPr/>
        </p:nvSpPr>
        <p:spPr>
          <a:xfrm>
            <a:off x="1162080" y="3890880"/>
            <a:ext cx="1704960" cy="1704960"/>
          </a:xfrm>
          <a:prstGeom prst="ellipse">
            <a:avLst/>
          </a:prstGeom>
          <a:solidFill>
            <a:srgbClr val="c0c0c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227240" y="4419720"/>
            <a:ext cx="19540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DAMENTALS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E: PC HW &amp; 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4697280" y="3133800"/>
            <a:ext cx="19544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NA-Exp</a:t>
            </a:r>
            <a:br>
              <a:rPr sz="18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ing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itching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ANs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ro to Adv Te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31"/>
          <p:cNvGrpSpPr/>
          <p:nvPr/>
        </p:nvGrpSpPr>
        <p:grpSpPr>
          <a:xfrm>
            <a:off x="5929560" y="3168000"/>
            <a:ext cx="281520" cy="369720"/>
            <a:chOff x="5929560" y="3168000"/>
            <a:chExt cx="281520" cy="369720"/>
          </a:xfrm>
        </p:grpSpPr>
        <p:sp>
          <p:nvSpPr>
            <p:cNvPr id="147" name="Rectangle 32"/>
            <p:cNvSpPr/>
            <p:nvPr/>
          </p:nvSpPr>
          <p:spPr>
            <a:xfrm flipH="1" rot="1033800">
              <a:off x="5936760" y="3205080"/>
              <a:ext cx="266760" cy="90360"/>
            </a:xfrm>
            <a:prstGeom prst="rect">
              <a:avLst/>
            </a:pr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3"/>
            <p:cNvSpPr/>
            <p:nvPr/>
          </p:nvSpPr>
          <p:spPr>
            <a:xfrm flipH="1" rot="6433800">
              <a:off x="5975640" y="3340440"/>
              <a:ext cx="304560" cy="79560"/>
            </a:xfrm>
            <a:prstGeom prst="rect">
              <a:avLst/>
            </a:pr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9" name="Straight Arrow Connector 34"/>
          <p:cNvCxnSpPr>
            <a:endCxn id="144" idx="2"/>
          </p:cNvCxnSpPr>
          <p:nvPr/>
        </p:nvCxnSpPr>
        <p:spPr>
          <a:xfrm flipH="1" flipV="1">
            <a:off x="2204280" y="4947480"/>
            <a:ext cx="1126440" cy="9658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0" name="Straight Arrow Connector 36"/>
          <p:cNvCxnSpPr/>
          <p:nvPr/>
        </p:nvCxnSpPr>
        <p:spPr>
          <a:xfrm flipV="1">
            <a:off x="3321720" y="4663800"/>
            <a:ext cx="471960" cy="1249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1" name="Straight Arrow Connector 39"/>
          <p:cNvCxnSpPr/>
          <p:nvPr/>
        </p:nvCxnSpPr>
        <p:spPr>
          <a:xfrm flipV="1">
            <a:off x="3330720" y="4106520"/>
            <a:ext cx="2064240" cy="1815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2" name="Straight Arrow Connector 41"/>
          <p:cNvCxnSpPr>
            <a:endCxn id="141" idx="3"/>
          </p:cNvCxnSpPr>
          <p:nvPr/>
        </p:nvCxnSpPr>
        <p:spPr>
          <a:xfrm flipV="1">
            <a:off x="3344760" y="4517640"/>
            <a:ext cx="2913840" cy="1404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53" name="Straight Arrow Connector 44"/>
          <p:cNvCxnSpPr/>
          <p:nvPr/>
        </p:nvCxnSpPr>
        <p:spPr>
          <a:xfrm flipV="1">
            <a:off x="3382560" y="2857320"/>
            <a:ext cx="3840840" cy="3078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4" name="Oval 45"/>
          <p:cNvSpPr/>
          <p:nvPr/>
        </p:nvSpPr>
        <p:spPr>
          <a:xfrm>
            <a:off x="3200400" y="5775480"/>
            <a:ext cx="282600" cy="266400"/>
          </a:xfrm>
          <a:prstGeom prst="ellipse">
            <a:avLst/>
          </a:prstGeom>
          <a:solidFill>
            <a:srgbClr val="c00000"/>
          </a:solidFill>
          <a:ln w="442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5"/>
          <p:cNvSpPr/>
          <p:nvPr/>
        </p:nvSpPr>
        <p:spPr>
          <a:xfrm>
            <a:off x="5654520" y="1905120"/>
            <a:ext cx="1206720" cy="1214280"/>
          </a:xfrm>
          <a:prstGeom prst="ellipse">
            <a:avLst/>
          </a:prstGeom>
          <a:solidFill>
            <a:srgbClr val="a0c02a"/>
          </a:solidFill>
          <a:ln w="76320">
            <a:solidFill>
              <a:srgbClr val="89a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5761080" y="2219400"/>
            <a:ext cx="1104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362240"/>
                <a:tab algn="l" pos="2724120"/>
                <a:tab algn="l" pos="4086360"/>
                <a:tab algn="l" pos="5448240"/>
                <a:tab algn="l" pos="6810480"/>
                <a:tab algn="l" pos="8172360"/>
                <a:tab algn="l" pos="9534600"/>
                <a:tab algn="l" pos="108964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CNA-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9"/>
          <p:cNvSpPr/>
          <p:nvPr/>
        </p:nvSpPr>
        <p:spPr>
          <a:xfrm>
            <a:off x="6060240" y="1889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c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onfiguring the WLC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1274760" y="1627200"/>
            <a:ext cx="634824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onfiguring the WLC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771480" y="1833480"/>
            <a:ext cx="719928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CNP &amp; Wireless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0000"/>
          </a:bodyPr>
          <a:p>
            <a:pPr marL="165240" indent="-16524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Building Multi-Layer Scalable N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W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Introducing W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WLAN top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WLAN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Configuring WLAN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Implementing W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Autonomous 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c00000"/>
                </a:solidFill>
                <a:latin typeface="Arial"/>
              </a:rPr>
              <a:t>LW APs &amp; WLAN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5240" indent="-16524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Optimizing Converged N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Implement WLAN Security &amp;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c00000"/>
                </a:solidFill>
                <a:latin typeface="Arial"/>
              </a:rPr>
              <a:t>WLAN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WLAN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1800" spc="-1" strike="noStrike">
                <a:solidFill>
                  <a:srgbClr val="c00000"/>
                </a:solidFill>
                <a:latin typeface="Arial"/>
              </a:rPr>
              <a:t>Managing WLANs (WLSE &amp; W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212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CNP - Theo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onfiguring the W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onfiguring Wireless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CNP - Practica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Bund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1 Internal or External WLAN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2 X LWAPs with Anten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2 X PCI Wireless 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CNP – Equipment Needed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at else is out there?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CNA® Wirel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onfiguring, monitoring and troubleshooting basic tasks of a Cisco WLAN in SMB and Enterprise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ertif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640-721 IUW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Implementing Cisco Unified Wireless Networking Essent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Exam Number: 640-7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re-requisite: CC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The future – CCNA Wirel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5896080" y="4435560"/>
            <a:ext cx="2184120" cy="1915920"/>
          </a:xfrm>
          <a:prstGeom prst="rect">
            <a:avLst/>
          </a:prstGeom>
          <a:ln w="0">
            <a:noFill/>
          </a:ln>
        </p:spPr>
      </p:pic>
      <p:cxnSp>
        <p:nvCxnSpPr>
          <p:cNvPr id="292" name="Straight Arrow Connector 5"/>
          <p:cNvCxnSpPr/>
          <p:nvPr/>
        </p:nvCxnSpPr>
        <p:spPr>
          <a:xfrm flipV="1">
            <a:off x="5037120" y="5455800"/>
            <a:ext cx="1456560" cy="8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1000"/>
          </a:bodyPr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WLAN RF princi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WLAN technologies and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Antennae 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802.11 protoc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Wireless media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Wired to wireless network packet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ff0000"/>
                </a:solidFill>
                <a:latin typeface="Arial"/>
              </a:rPr>
              <a:t>Cisco Unified Wireless Networks basic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ff0000"/>
                </a:solidFill>
                <a:latin typeface="Arial"/>
              </a:rPr>
              <a:t>Controller discovery, association, a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ff0000"/>
                </a:solidFill>
                <a:latin typeface="Arial"/>
              </a:rPr>
              <a:t>Adding mobility with ro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ff0000"/>
                </a:solidFill>
                <a:latin typeface="Arial"/>
              </a:rPr>
              <a:t>Migrating standalone AP to LW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ff0000"/>
                </a:solidFill>
                <a:latin typeface="Arial"/>
              </a:rPr>
              <a:t>Mobility Express 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Wireless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ff0000"/>
                </a:solidFill>
                <a:latin typeface="Arial"/>
              </a:rPr>
              <a:t>Installing and configuring the W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1600" spc="-1" strike="noStrike">
                <a:solidFill>
                  <a:srgbClr val="000000"/>
                </a:solidFill>
                <a:latin typeface="Arial"/>
              </a:rPr>
              <a:t>Securing, maintaining, and troubleshooting wireless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>
              <a:lnSpc>
                <a:spcPct val="95000"/>
              </a:lnSpc>
              <a:spcBef>
                <a:spcPts val="100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CCNA Wireless Topic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o when will we see the Academy version of this course?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E &amp; Wireless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PAR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3. Install the Physical WNIC (</a:t>
            </a:r>
            <a:r>
              <a:rPr b="0" lang="en-ZA" sz="2000" spc="-1" strike="noStrike">
                <a:solidFill>
                  <a:srgbClr val="c00000"/>
                </a:solidFill>
                <a:latin typeface="Arial"/>
              </a:rPr>
              <a:t>like any other interface card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8. Briefly describe WLAN &amp; Wireless Ethernet Standards (</a:t>
            </a:r>
            <a:r>
              <a:rPr b="0" lang="en-ZA" sz="2000" spc="-1" strike="noStrike">
                <a:solidFill>
                  <a:srgbClr val="c00000"/>
                </a:solidFill>
                <a:latin typeface="Arial"/>
              </a:rPr>
              <a:t>mention media &amp; 802.11 standards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9. Describe Wireless Security (</a:t>
            </a:r>
            <a:r>
              <a:rPr b="0" lang="en-ZA" sz="2000" spc="-1" strike="noStrike">
                <a:solidFill>
                  <a:srgbClr val="c00000"/>
                </a:solidFill>
                <a:latin typeface="Arial"/>
              </a:rPr>
              <a:t>mention security in Wireless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PAR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13. Laptops - Describe Wi-Fi technology (</a:t>
            </a:r>
            <a:r>
              <a:rPr b="0" lang="en-ZA" sz="2000" spc="-1" strike="noStrike">
                <a:solidFill>
                  <a:srgbClr val="c00000"/>
                </a:solidFill>
                <a:latin typeface="Arial"/>
              </a:rPr>
              <a:t>repeat media, standards &amp; security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15. Install &amp; Configure Wireless NIC (</a:t>
            </a:r>
            <a:r>
              <a:rPr b="0" lang="en-ZA" sz="2000" spc="-1" strike="noStrike">
                <a:solidFill>
                  <a:srgbClr val="c00000"/>
                </a:solidFill>
                <a:latin typeface="Arial"/>
              </a:rPr>
              <a:t>brief overview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ITE - Theo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7000"/>
          </a:bodyPr>
          <a:p>
            <a:pPr marL="181800" indent="-1818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PAR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3. Install the Physical W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c00000"/>
                </a:solidFill>
                <a:latin typeface="Arial"/>
              </a:rPr>
              <a:t>-PHYSICAL HW INSTALL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8. Briefly describe WLAN &amp; Wireless Ethernet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9. Describe Wireless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PAR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11. Laptops - Describe Wi-Fi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15. Install &amp; Configure Wireless N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c00000"/>
                </a:solidFill>
                <a:latin typeface="Arial"/>
              </a:rPr>
              <a:t>INSTALL WNIC &amp;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en-ZA" sz="2000" spc="-1" strike="noStrike">
                <a:solidFill>
                  <a:srgbClr val="c00000"/>
                </a:solidFill>
                <a:latin typeface="Arial"/>
              </a:rPr>
              <a:t>CONNECT TO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208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ITE - Practica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560" y="304920"/>
            <a:ext cx="6732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ITE Equipment needed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55560" y="1520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Recommen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1 X Linksys WRT300N Wireless Router per 2 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1 X Compatible Wireless NIC per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Minim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1 X Linksys WRT300N Wireless Router for th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2 PCs with Compatible Wireless 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520" y="285444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CNA &amp; Wireless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4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6T07:29:33Z</dcterms:created>
  <dc:creator>renaldo</dc:creator>
  <dc:description/>
  <dc:language>en-US</dc:language>
  <cp:lastModifiedBy>renaldo</cp:lastModifiedBy>
  <dcterms:modified xsi:type="dcterms:W3CDTF">2009-03-24T10:11:09Z</dcterms:modified>
  <cp:revision>104</cp:revision>
  <dc:subject/>
  <dc:title>Slide 1</dc:title>
</cp:coreProperties>
</file>